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884-A34C-4BFC-9AE0-C93FA488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410-46E3-4680-902D-C7553F14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D07FD-6470-47BC-8508-53E0C8D1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687F4-1BD8-44D7-89F5-E35D133F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CE259-2AE2-4DAA-B14A-33CA22E3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37379-FA67-456B-8D45-E18338EC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625F8-5B86-4667-8A40-ADB0E435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4F35B-D067-4987-8451-067A9E6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30C17-7AC4-47A7-99ED-DF84F1FE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E2B5A-378D-4C2E-BAD7-847D120A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6826D-DB87-46FD-BA65-56856174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A9ACD-469E-4064-8BD6-F251AA0B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388-BF53-457E-BCE7-3E8EC8C9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2A0A0-2149-4955-90EB-3FB6AF04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07857-57EC-4DE7-8890-AC3B48E1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8DD95-C828-43A1-A9AF-68AD6A3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36CD0-1A3F-4434-8381-5D932D2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3B3A4-8CC9-4E6A-A6C9-563F4FD0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70275-8061-4D56-88D1-E5835C9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91CFF-34B7-4737-AE07-20CFF83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D2E4D-B114-49F9-8DFB-DE60A0E2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2A524-094A-46A7-BC22-75CA7AA9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1D893-FF9B-48F5-ABC9-406A386E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D33-8CA8-42DA-A507-E3E2DBCA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E53F1-CBD8-471B-994B-AE2DD2AF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39265-F3B4-4626-886B-15B48B3C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D0CFB-840B-4F5A-A812-7E2D3007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AE0D-1D5A-4DD0-A290-4BE02DE4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010D0-745D-4784-B9AF-28834365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0108C-8CF7-4E40-9B4E-0B93B200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29482-18B0-4E60-8B80-E081EEB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559FC-EDEB-402B-87AA-8198BA5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44829-F48A-47B9-A679-855C3A8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66F00-32B6-4DF7-AB34-3C7D52FF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BD08-6F4B-478D-AB55-081F31AF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846F8-B765-48B8-8676-39B95D6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E1E8B-4072-405D-A5CD-51095B0F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16513-3F3E-4CEB-BA1B-55FA181E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1F6C8-3F15-4D95-82BE-2E919BAB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CC060-B04F-4C17-9DAC-F4BC5E6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75453-4F42-4945-A104-9B0AD092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A85B1-E3D7-4B19-9359-F16CB163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7270A-733E-4B2F-86E1-6533992E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515E6-F1E9-4EE2-8F00-4F7B7B15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F1366-0B16-439A-B7FA-37C48EC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6C61-ADD8-4ADD-BD1C-F9CF1A48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CEC7A-6546-4757-9FB6-4FBB6EB3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5C5A4-E06D-4AB5-B6DC-64E9875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D1A1A-2F47-40ED-82BF-252100FE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FE5B6-EA12-4BFA-967E-8D18261B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B2429-273A-41EC-A29C-83943DF9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6924-E1F8-4544-B0A6-95D646F4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0EA2-945F-45AF-9B8F-53B2ADC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B4D-26CE-405B-9B89-9D69EE6E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2B94-2990-4FCB-A56B-939B8B48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B068-2377-4C3E-A281-D1A6BBF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7DF-381E-4083-B8EB-EC49569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DCE4-2CFA-4FBB-BD5F-A6285E1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58F9-6D13-42D1-8E24-4AD20377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C8E6-C764-4475-BB7B-1DBB099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EAA-DF98-4A0D-8E07-C0932F70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CF8E-D974-420F-9156-D339190C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1415-0738-4835-A0ED-78DA8A3E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5209-2996-4774-A5F4-B9594C0E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DE40-D991-4E61-8EFA-EAA9F92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F819-0CDA-4C03-9CCA-79D91683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3869-2CFA-4CB4-AD8F-026A0028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17E-2903-4464-8495-B3AE282F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2F6F-A157-407E-A219-61D08A61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5702-D006-43A5-AD19-F4D9D934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F3E2-BA05-48A5-83E0-1BC009B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8FB0-D245-41AA-A4FA-5BCE276C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AC78-3E14-43F2-99C0-FC5F971F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631D-61FA-4F13-830A-BF5C21E8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1985-A6CE-447C-9DCD-276E348B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951B-D9E9-493F-A3EE-75A46178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A4E5-786B-4BBC-A5E4-C07B67CB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BCC0-3056-44B8-87A4-226B452A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BDF-1D6A-4A45-AC5A-FAD9112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0B17-A4D3-413A-B00F-91F350D3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9424-57FD-4D24-9EAF-EF543336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0022-CF87-41CD-B32B-50195107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28AB-702C-4C09-A544-06F4A81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43BB-5AC4-4D0E-833D-FCB0573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2C6C-820E-41E5-9999-1BCAD889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7393-C2B1-4C0C-8B20-E1566651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66901-B011-42DB-B699-18387B4C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0EBB-B0DF-4F3F-B814-63B9B9C6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08FF-AAB9-4A0F-85D9-47E34313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0D8-CE06-4859-9047-8F745C7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5630-E024-4C3D-B0BC-1B0C8D43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5E49-991C-4F01-8FBB-E3F1F3DC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9C69-FEB6-4DB2-9166-7ABF48E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4389-E702-4B77-9CA9-9C621E4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C001-6DAF-43C5-82EB-C98828A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6A69-1516-41D2-96E2-71197D1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F48C-D643-4036-9767-729B60A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07090-127F-463F-B8FD-08CDA4E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E083-34A7-416A-AC40-30C9C623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0C42A-7017-4786-8CDA-F884C572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CD7-DD70-4950-9D9B-0C2624EC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44EF-DC6E-4E05-B54A-5B8CCB67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9011-C949-4BB1-8F6B-834F1774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30C1-C91A-49F1-9824-3767C1E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9EAD-D7B6-4D6F-AB21-C1646EC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B1F3D-B601-4E7C-A948-985355A4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41C3A-73BA-4601-9484-335384DD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59417-E2C6-4CF0-8CD8-ADE13030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270DE-851B-4B25-BBA3-16E8EC4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1AC4-C961-4E3F-B453-D37795B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12CF-640F-43FD-B443-90DA023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FAA-8C91-45B6-BFB4-F3F1737F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A9F2-B226-4389-8672-BA1A7B57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C1FC-CEDF-4995-B8C2-1FAB5A91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D109B-E344-497B-82AF-6CCA66EE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3C64-3187-413E-981E-465BB10B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9751-8941-4EC6-9F9A-CB2FE7E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C395E-A86D-4DAE-ADFF-852D4B3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C4B3-E59C-4241-87A1-4EC96E6A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2AC5A-E3E5-4F0C-A068-8BF0F004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A3C8A-CEA8-4978-BF80-4FEA556C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2DA4-ECF3-40A0-8780-73F5ECB8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D37-CF27-41C5-9A91-D161E15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7E2F-9904-4D16-97F7-0991A93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39A5F-2099-473C-8320-D06E14F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F7A3D-18C0-444E-9D9A-F5404F1B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220AA-E606-459E-B0C4-E48BD8F3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673D9-2ECB-4A89-A0C5-D58AE3DD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21DAE-1932-4915-A407-608AE08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E08B-91CE-4A3B-A0F0-A74CC8CA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FCDA-329A-4AAE-A122-66534172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FB6A-A98D-4F6F-9283-AA5D8D0B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4F7AF-22C9-495D-80A0-2CB77F82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015-68DB-4EAC-BEE4-DA9B6979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55215-9F8A-4A6E-92E0-1F439E02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AFF03-A54F-4641-8FE0-AD1BE4E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130B-1CB8-42E2-AF73-665684D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7330-AC7F-474D-8A31-563F838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B4FE8-9BCC-4F84-AD67-A1EE73CE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60E2D-0E7F-497F-AFF8-23D48645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29EA0-2D24-47BB-8585-4144AF76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DFD33-53BD-4CE8-B61A-B49470F8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6CE7D-4A0D-45BD-9048-7E85CDE8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5A47E-A7F8-4BFE-986A-CE9E56EE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E6E0-8EFE-4A28-88D4-AF96F509439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096-3225-434D-82E0-9C5241E7CB8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BFAF-A25B-4C29-9E9D-748B21592C7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5E3-18C3-4BDC-A812-083C8FD5365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BA8F-DA4A-4ABF-9170-C088BE57CE4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297-6F5E-42A4-A3EA-F23DBFBE2B1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613-1A56-4341-B242-1E48CBE0784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F04B-8CD3-4450-A125-1E02B6523B6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9145-82AB-4D10-91BE-F7E41227867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82D-5287-4FF1-918B-003C260C7E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1C02-EAC8-41A4-A399-66DAD9DBB2D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9BF-A2AE-4ED8-A2B7-1059C88D817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91 Hospodin nás viedol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Hospodin nás viedol sám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v svojej láskavosti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preto hľaďme s dôverou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j do budúcnos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slal pomoc v pravý čas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aždej žitia ties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cky nový dôvod d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vďačnej srdca pies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žia ruka prikrátk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ikdy nebýval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Kristovi nám najväčš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klad darov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ním nám aj dnes podáv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tec hojné da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ojej láske verný 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rpezlivý,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asom sa nám môže zd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 pomocou, že mešk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uka jeho láskav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ráni nás i tre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 bludnej cesty odvraci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die k vodám živý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zelené pažit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astier milostiv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spodin vždy s nami bo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láske neskonale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ocným svojím ramenom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vedie nás ďal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sveta tmách nás nenechá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mocne sa zmieta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vedie až do ci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aždé svoje dieťa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10:26Z</dcterms:modified>
  <cp:revision>95</cp:revision>
  <dc:subject/>
  <dc:title>Je veľký náš Pán, on slávy je Kráľ Nech do všetkých strán  spev vrúcnych znie chvál.</dc:title>
</cp:coreProperties>
</file>